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1AD-8D9C-4C2E-96A9-3D1A4A08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BC4-FC21-4F25-A823-E89035BE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848-042F-45B6-B144-5C6E3E28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C41-B030-4CE1-B61A-10630411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866F-2886-43CB-98BB-1A2066C0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B837-D230-45E4-BD62-B7C5CA67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5F21-4AD6-42F1-8CFC-2F76133A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8C5C-8E87-4512-9A1E-AC4AA7BC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D998-47FA-495E-A685-6C37BDC0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E034-F581-472A-95A6-A22189D8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3B4E-2582-4DB2-B6B6-FAF5F68F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4214-E5D9-4E58-985B-ECD9437C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B933-C5EB-4B60-9416-7C15B77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A592-5B29-4905-AA91-054FF92D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727D-E9EA-45A5-9900-514B89F8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F3BE-7E47-4581-B1E5-5742A63C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5DF6-BFCD-477B-88E6-347530AB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32AF-D5F2-4C96-B19D-149A837B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50CB-4110-4676-B99A-2C17B733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1333-F04F-4931-B600-A50D4056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1947E-60EB-46EB-A2E5-2AD60473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0903-5DD0-46DD-8CF0-52126068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E58-8ED1-4FAC-97A3-86F1E901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F7A2-985F-4631-AAC6-C9F01AA8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BB36-690F-4A6A-8B6C-F174852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64CC9-8CCD-435B-9FBC-5CF8DF6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41F8-14B8-46AD-A151-2205FDCA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93C76-22F5-4BC3-BAB3-B1043BB9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A173-2836-43E7-8128-C5D58D36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E5D4-F9CE-467D-AE55-F2CC42C0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F5CD-5C59-4EF6-8EA7-A697903D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ED28-278C-4391-BCFF-ACABE8CC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22D8-C835-449A-AAB5-96B10157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AD7-99A0-4104-B6DD-DC150846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DA4C1-E4AA-4AEF-AD86-F1721CA8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2282-0285-437E-B5BD-2D9A7299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8DAA4-5C1B-4B80-A3B8-7D70A0A3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172A-EF83-4D6E-9692-683D893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C749F-EA63-4DC5-98E9-1485D64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6DD9-4A83-4A5E-BFB4-E41D9D5C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5D20-CE1E-414E-A5ED-A1B65421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BAA1-098E-472E-A818-93A5539B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16C5-ABE4-4756-8BEC-206C5D99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8FE14-1BFC-4612-B7D1-C7491819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D5F-7918-4072-A10B-DC6BC4AD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49A98-6FA0-45C0-9BC4-213D1A8A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D5B77-DCBC-45DC-B93F-D42D72EB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97403-E3FB-4412-9456-82555420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AAB8A-1C40-443E-AA19-F72E19C6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F30D-712D-45D8-A784-7B594C34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C1208-1430-4D7F-8683-D4D9EF22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1476E-C51E-46B4-BBFA-413BEA42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BF846-BF9C-434E-8C3C-0CC87B6C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1DEE9-FB4C-4347-A865-B793C202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ED3B-7C16-4FAB-8A0C-D5D57AF2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D32-1AA2-42F9-9EA5-B306A3C4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C9CEE-B198-432C-A50E-AC351B3E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04852-F869-4344-85EE-9EA73936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31A06-507B-4F43-9607-CEC4B831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F53D4-7DD3-47B5-9A94-E70B9666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2369B-8B32-41D3-B334-2DD47718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6F197-815A-483A-9153-E4055651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5E636-A492-4003-B918-52C785FB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23903-8FEC-4909-ACD3-60E326D5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479CA-1F32-4E7B-A2D8-B6F72B92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4A999-F97D-432E-ACC0-0513B810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FA9-4E17-48C8-92C2-F6593B50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23F93-A2B7-4247-8AF1-3333E6B6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193D5-420B-4247-8FFE-0A87AFD8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45B69-3EBD-4E10-A320-EE620717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8D24E-44E5-431C-BF90-2FF18B73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4F3DD-6854-4F59-986C-46A93CFC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B38C0-7D52-4432-A186-0DB5CEA2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88506-09AA-411F-8634-6FB80E0A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C4522-7443-447F-8505-C6E1B006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AEAA-FC6C-486C-9E6D-8E957EC4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91995-538D-412B-B68C-6454569D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4CB-0C4D-43E5-BC98-8B64626C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C6DAD-2235-4765-A0E4-C6CBB45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BC3A-A1DA-4883-8E40-13FCA299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9D396-4EBC-4729-8544-9A2323D5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23AAB-5239-4F25-BBB7-12E0CFB2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72992-203E-43EF-8FFE-BA184622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EDC5-84A5-424D-977A-E57CD617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0956-F9DA-4759-BC35-6EB32854158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5DA4-40C7-4EA3-98F8-6E336072CC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E015-20F2-47B0-8D52-1DEB909695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842A-463B-4E89-B91F-B13507F5068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4F4D-3A18-462A-8CCD-A31B93BDF3F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D5B1-3525-41D1-87EE-D5947DB9EA5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E81E-E65F-47A6-9C06-46094C6E5B2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244440" y="639720"/>
            <a:ext cx="8070840" cy="16765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drew Lee, Jen Harchut, Glenn Van Orden, Roy Ge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tion of gas particles is rapid, constant, and random all collisions between gas particles are elast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7" name="Picture 2" descr="http://www-personal.umich.edu/~lpt/oxlabel_files/oxlabel.gif"/>
          <p:cNvPicPr/>
          <p:nvPr/>
        </p:nvPicPr>
        <p:blipFill>
          <a:blip r:embed="rId2"/>
          <a:stretch/>
        </p:blipFill>
        <p:spPr>
          <a:xfrm>
            <a:off x="2895480" y="3581280"/>
            <a:ext cx="2284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the particles in a liquid are attracted to each ot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Picture 2" descr="http://www.a2gov.org/government/publicservices/water_treatment/PublishingImages/water_drop.JPG"/>
          <p:cNvPicPr/>
          <p:nvPr/>
        </p:nvPicPr>
        <p:blipFill>
          <a:blip r:embed="rId2"/>
          <a:stretch/>
        </p:blipFill>
        <p:spPr>
          <a:xfrm>
            <a:off x="2743200" y="3048120"/>
            <a:ext cx="37908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ticles have fixed locations, and vibrate rapidly as kinetic energy increa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3" name="Picture 2" descr="http://blogs.msdn.com/blogfiles/cdndevs/WindowsLiveWriter/DimeCast.NetsSOLIDScreencasts_6954/solid_brick_3.jpg"/>
          <p:cNvPicPr/>
          <p:nvPr/>
        </p:nvPicPr>
        <p:blipFill>
          <a:blip r:embed="rId2"/>
          <a:stretch/>
        </p:blipFill>
        <p:spPr>
          <a:xfrm>
            <a:off x="3352680" y="2895480"/>
            <a:ext cx="25146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rystal system- 7 groups that crystals are classified into with different characteristic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it cell- smallest group of particles within the crystals that retains its geometric shap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chemed.chem.purdue.edu/genchem/topicreview/bp/ch13/graphics/13_19.gif"/>
          <p:cNvPicPr/>
          <p:nvPr/>
        </p:nvPicPr>
        <p:blipFill>
          <a:blip r:embed="rId2"/>
          <a:stretch/>
        </p:blipFill>
        <p:spPr>
          <a:xfrm>
            <a:off x="2514600" y="3809880"/>
            <a:ext cx="378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amonds have high density and are very har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aphite has low density and is flexible and slippery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llerenes have strength and are rigi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http://upload.wikimedia.org/wikipedia/commons/thumb/d/d7/Rough_diamond.jpg/240px-Rough_diamond.jpg"/>
          <p:cNvPicPr/>
          <p:nvPr/>
        </p:nvPicPr>
        <p:blipFill>
          <a:blip r:embed="rId2"/>
          <a:stretch/>
        </p:blipFill>
        <p:spPr>
          <a:xfrm>
            <a:off x="685800" y="4419720"/>
            <a:ext cx="2286000" cy="1724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http://upload.wikimedia.org/wikipedia/commons/thumb/f/f3/GraphiteUSGOV.jpg/240px-GraphiteUSGOV.jpg"/>
          <p:cNvPicPr/>
          <p:nvPr/>
        </p:nvPicPr>
        <p:blipFill>
          <a:blip r:embed="rId3"/>
          <a:stretch/>
        </p:blipFill>
        <p:spPr>
          <a:xfrm>
            <a:off x="3352680" y="4419720"/>
            <a:ext cx="2286000" cy="2238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http://upload.wikimedia.org/wikipedia/commons/thumb/c/c5/Fullerene_c540.png/220px-Fullerene_c540.png"/>
          <p:cNvPicPr/>
          <p:nvPr/>
        </p:nvPicPr>
        <p:blipFill>
          <a:blip r:embed="rId4"/>
          <a:stretch/>
        </p:blipFill>
        <p:spPr>
          <a:xfrm>
            <a:off x="6324480" y="434340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morphous solids where there is no ordered arrangement of partic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http://steelguru.com/uploads/reports/sss1-29-08-2008.jpg"/>
          <p:cNvPicPr/>
          <p:nvPr/>
        </p:nvPicPr>
        <p:blipFill>
          <a:blip r:embed="rId2"/>
          <a:stretch/>
        </p:blipFill>
        <p:spPr>
          <a:xfrm>
            <a:off x="2666880" y="3124080"/>
            <a:ext cx="39243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2:45:22Z</dcterms:created>
  <dc:creator>14alee</dc:creator>
  <dc:description/>
  <dc:language>en-US</dc:language>
  <cp:lastModifiedBy>14alee</cp:lastModifiedBy>
  <dcterms:modified xsi:type="dcterms:W3CDTF">2012-04-26T13:08:56Z</dcterms:modified>
  <cp:revision>3</cp:revision>
  <dc:subject/>
  <dc:title>Chemistry Stuff</dc:title>
</cp:coreProperties>
</file>